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5DD81CD-719E-4131-8A90-81712A986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0179A11-EECB-40ED-B967-DC9E89647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5BBFC5F-13A9-4D1F-A769-28099CFC5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2FDD303-7691-402A-91FF-001EF2EFD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30F1225-A9D3-4DC2-9B4D-DBB7B2BA1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81DB599-6C68-4B7E-ABE1-9EBB396A9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8DA5CE0-4F25-4336-B473-A6E0B0AD3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66CF58D-0B13-4BDA-B404-886B79D9B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21A0042-BC3C-47E2-B07E-36E7E2179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C97685A-C319-4B2E-8F29-E49F959D9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CD073EC-C8A9-4DC2-86D5-ECF771810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F4A4BED-81CD-4585-B216-B1BFA80C5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9DE2B0A-306B-4D6D-B26B-16B5DFB73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502CE0E-8D48-45E2-90C0-E70EF258E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ADF3-C92F-4644-A434-389E2E8F0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F1E1-8877-41CD-B30A-4A17582C9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299F-9CC4-4F21-945E-A25F066B3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93C1-D4F6-495E-B293-4A5FA5975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1279-C771-4560-A6EA-EEEA4A128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05EA-AF3C-444A-94F6-B7A4009C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F71E-0DB1-452C-BB41-5046C428F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5685-8EF7-406B-8724-B447767C1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8D85-8ACC-4931-B878-9A667AD0A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30F2-F92F-4131-A339-4AE26314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F693-877F-4B03-91C5-C1DEBB30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1BA3-5516-42DB-AAFF-DD14AD6D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7FE69-4842-402B-AEF2-28187AC7A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c.europa.eu/enlargement/pdf/financial_assistance/ipa/2009/political/pf.02_civil_society_en.pd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"/>
          <p:cNvPicPr/>
          <p:nvPr/>
        </p:nvPicPr>
        <p:blipFill>
          <a:blip r:embed="rId1"/>
          <a:stretch/>
        </p:blipFill>
        <p:spPr>
          <a:xfrm>
            <a:off x="6230880" y="0"/>
            <a:ext cx="2705040" cy="2336760"/>
          </a:xfrm>
          <a:prstGeom prst="rect">
            <a:avLst/>
          </a:prstGeom>
          <a:ln w="0">
            <a:noFill/>
          </a:ln>
        </p:spPr>
      </p:pic>
      <p:sp>
        <p:nvSpPr>
          <p:cNvPr id="4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43271-9FE1-4FFC-965B-D1805D89F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284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 Civil Society Facility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portunities for Increased Involvement by            Banking Associations in Financial Sector Modernization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Western Balkans and Turkey </a:t>
            </a:r>
            <a:br>
              <a:rPr sz="2400"/>
            </a:br>
            <a:br>
              <a:rPr sz="4000"/>
            </a:b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5"/>
          <p:cNvGrpSpPr/>
          <p:nvPr/>
        </p:nvGrpSpPr>
        <p:grpSpPr>
          <a:xfrm>
            <a:off x="380880" y="609480"/>
            <a:ext cx="2521080" cy="1032120"/>
            <a:chOff x="380880" y="609480"/>
            <a:chExt cx="2521080" cy="1032120"/>
          </a:xfrm>
        </p:grpSpPr>
        <p:sp>
          <p:nvSpPr>
            <p:cNvPr id="52" name="AutoShape 6"/>
            <p:cNvSpPr/>
            <p:nvPr/>
          </p:nvSpPr>
          <p:spPr>
            <a:xfrm>
              <a:off x="380880" y="609480"/>
              <a:ext cx="252108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Picture 7" descr=""/>
            <p:cNvPicPr/>
            <p:nvPr/>
          </p:nvPicPr>
          <p:blipFill>
            <a:blip r:embed="rId2"/>
            <a:stretch/>
          </p:blipFill>
          <p:spPr>
            <a:xfrm>
              <a:off x="380880" y="609480"/>
              <a:ext cx="2521080" cy="103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Text Box 11"/>
          <p:cNvSpPr/>
          <p:nvPr/>
        </p:nvSpPr>
        <p:spPr>
          <a:xfrm>
            <a:off x="1523880" y="5257800"/>
            <a:ext cx="7347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ropean Banking Fed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9th  Associates Meeting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ussels, 3 December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igi Passamo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d, Convergence Program,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BF SPI Platform Toolkit: </a:t>
            </a:r>
            <a:br>
              <a:rPr sz="44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rong Commitment to Public-Private Coope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7EEEC-6118-4C03-A184-B5D0D2E0DF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152280" y="1600200"/>
            <a:ext cx="883944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y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obust dialogue structure with public institution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s pursued by EU CSF Progra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As participate in deciding the regulatory agend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y contribute to solution-desig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vidence-based practic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enhance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elps design more market-friendly solu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y high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ork efficienc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nowledge sharing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public institutions and other market participan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51920" y="914400"/>
            <a:ext cx="8991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U Civil Society Facility can give EBF Associates generou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-year funding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 hire talent to scale up their influenc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er legitimacy with members and societ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eper integration in regional and EU netwo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PI Platform is ideal vehicle to “connect” with authoriti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actively promote reform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filling EU CSF ultimate objective to create a vibrant civil society in future Member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t these important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w opportunities need to be internalized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y EBF Associates Leadershi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149AB-802E-40C5-B059-3082D2889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320" y="27432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lustrative Project Funding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1702B-E9B4-4E9C-8643-6C58254E4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71640" y="5867280"/>
            <a:ext cx="8956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rge EU Grant leverage by SPI Platform in-kind resourc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686800" cy="3809880"/>
          </a:xfrm>
          <a:prstGeom prst="rect">
            <a:avLst/>
          </a:prstGeom>
          <a:ln w="0">
            <a:noFill/>
          </a:ln>
        </p:spPr>
      </p:pic>
      <p:sp>
        <p:nvSpPr>
          <p:cNvPr id="138" name="Oval 11"/>
          <p:cNvSpPr/>
          <p:nvPr/>
        </p:nvSpPr>
        <p:spPr>
          <a:xfrm>
            <a:off x="2743200" y="2362320"/>
            <a:ext cx="990720" cy="91440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28600" y="12949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BF Associate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 communicate to EBF desire to app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or Civil Society Facility gra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e of activities to be financ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ies” and “Influen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ly, regionally and with EU counter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vergence Program will help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still EBF SPI Platform toolkit information and valu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o content for a CSF grant appl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must be completed by 28 February 20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68261-6DA7-4BE7-85F9-9A2996FAB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 Civil Society Fac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51920" y="762120"/>
            <a:ext cx="89917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European Commissio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ishes to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trengthen the role of Banking Association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BAs) in the Accession process reform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ased participation of BAs in decision-making, policy implementation and moni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ased cooperation between BAs and other civil society organizations and between BAs and author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ran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up to €5 million for three year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ortium of three BAs plus EU counterpa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0% co-pay by benefici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17E79-F6BF-4E07-958D-7C7D10B0C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152280" y="6553080"/>
            <a:ext cx="853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c.europa.eu/enlargement/pdf/financial_assistance/ipa/2009/political/pf.02_civil_society_en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blic Goal: Stronger BA Influence Through Various Partnership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B438F-FE3F-4433-A902-4B30576C6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4"/>
          <p:cNvSpPr/>
          <p:nvPr/>
        </p:nvSpPr>
        <p:spPr>
          <a:xfrm>
            <a:off x="380880" y="2209680"/>
            <a:ext cx="274320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5"/>
          <p:cNvSpPr/>
          <p:nvPr/>
        </p:nvSpPr>
        <p:spPr>
          <a:xfrm>
            <a:off x="4572000" y="4419720"/>
            <a:ext cx="2057400" cy="1904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6"/>
          <p:cNvSpPr/>
          <p:nvPr/>
        </p:nvSpPr>
        <p:spPr>
          <a:xfrm>
            <a:off x="6629400" y="1447920"/>
            <a:ext cx="2057400" cy="1904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7"/>
          <p:cNvSpPr/>
          <p:nvPr/>
        </p:nvSpPr>
        <p:spPr>
          <a:xfrm>
            <a:off x="6629400" y="3657600"/>
            <a:ext cx="2057400" cy="1905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8"/>
          <p:cNvSpPr/>
          <p:nvPr/>
        </p:nvSpPr>
        <p:spPr>
          <a:xfrm>
            <a:off x="4419720" y="2286000"/>
            <a:ext cx="2057400" cy="1905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9"/>
          <p:cNvSpPr/>
          <p:nvPr/>
        </p:nvSpPr>
        <p:spPr>
          <a:xfrm>
            <a:off x="4876920" y="35924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3"/>
          <p:cNvSpPr/>
          <p:nvPr/>
        </p:nvSpPr>
        <p:spPr>
          <a:xfrm>
            <a:off x="1295280" y="3200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5"/>
          <p:cNvSpPr/>
          <p:nvPr/>
        </p:nvSpPr>
        <p:spPr>
          <a:xfrm>
            <a:off x="4572000" y="30592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6"/>
          <p:cNvSpPr/>
          <p:nvPr/>
        </p:nvSpPr>
        <p:spPr>
          <a:xfrm>
            <a:off x="5715000" y="3059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7"/>
          <p:cNvSpPr/>
          <p:nvPr/>
        </p:nvSpPr>
        <p:spPr>
          <a:xfrm>
            <a:off x="518148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Straight Arrow Connector 31"/>
          <p:cNvCxnSpPr/>
          <p:nvPr/>
        </p:nvCxnSpPr>
        <p:spPr>
          <a:xfrm>
            <a:off x="5105160" y="3276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2" name="Straight Arrow Connector 37"/>
          <p:cNvCxnSpPr/>
          <p:nvPr/>
        </p:nvCxnSpPr>
        <p:spPr>
          <a:xfrm flipV="1">
            <a:off x="4952520" y="2742480"/>
            <a:ext cx="38196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3" name="Straight Arrow Connector 38"/>
          <p:cNvCxnSpPr>
            <a:endCxn id="69" idx="0"/>
          </p:cNvCxnSpPr>
          <p:nvPr/>
        </p:nvCxnSpPr>
        <p:spPr>
          <a:xfrm>
            <a:off x="5638320" y="2743200"/>
            <a:ext cx="420120" cy="3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4" name="Straight Arrow Connector 43"/>
          <p:cNvCxnSpPr/>
          <p:nvPr/>
        </p:nvCxnSpPr>
        <p:spPr>
          <a:xfrm flipV="1">
            <a:off x="6552720" y="3123360"/>
            <a:ext cx="38196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5" name="Straight Arrow Connector 44"/>
          <p:cNvCxnSpPr/>
          <p:nvPr/>
        </p:nvCxnSpPr>
        <p:spPr>
          <a:xfrm>
            <a:off x="6400440" y="3885840"/>
            <a:ext cx="30564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6" name="Straight Arrow Connector 45"/>
          <p:cNvCxnSpPr/>
          <p:nvPr/>
        </p:nvCxnSpPr>
        <p:spPr>
          <a:xfrm flipV="1">
            <a:off x="7085160" y="3277800"/>
            <a:ext cx="360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7" name="Straight Arrow Connector 57"/>
          <p:cNvCxnSpPr/>
          <p:nvPr/>
        </p:nvCxnSpPr>
        <p:spPr>
          <a:xfrm>
            <a:off x="3352320" y="3276720"/>
            <a:ext cx="762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8" name="Straight Arrow Connector 58"/>
          <p:cNvCxnSpPr/>
          <p:nvPr/>
        </p:nvCxnSpPr>
        <p:spPr>
          <a:xfrm flipH="1">
            <a:off x="6246000" y="4040280"/>
            <a:ext cx="39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9" name="Straight Arrow Connector 62"/>
          <p:cNvCxnSpPr/>
          <p:nvPr/>
        </p:nvCxnSpPr>
        <p:spPr>
          <a:xfrm>
            <a:off x="3352320" y="3809880"/>
            <a:ext cx="122004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0" name="Straight Arrow Connector 63"/>
          <p:cNvCxnSpPr/>
          <p:nvPr/>
        </p:nvCxnSpPr>
        <p:spPr>
          <a:xfrm>
            <a:off x="3123720" y="4419360"/>
            <a:ext cx="11437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81" name="TextBox 66"/>
          <p:cNvSpPr/>
          <p:nvPr/>
        </p:nvSpPr>
        <p:spPr>
          <a:xfrm>
            <a:off x="7010280" y="25146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7"/>
          <p:cNvSpPr/>
          <p:nvPr/>
        </p:nvSpPr>
        <p:spPr>
          <a:xfrm>
            <a:off x="7010280" y="46483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8"/>
          <p:cNvSpPr/>
          <p:nvPr/>
        </p:nvSpPr>
        <p:spPr>
          <a:xfrm>
            <a:off x="4952880" y="55627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1"/>
          <p:cNvSpPr/>
          <p:nvPr/>
        </p:nvSpPr>
        <p:spPr>
          <a:xfrm>
            <a:off x="228600" y="63244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: Viktorija’s 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lowchart: Connector 27"/>
          <p:cNvSpPr/>
          <p:nvPr/>
        </p:nvSpPr>
        <p:spPr>
          <a:xfrm>
            <a:off x="6553080" y="3429000"/>
            <a:ext cx="457200" cy="457200"/>
          </a:xfrm>
          <a:prstGeom prst="flowChartConnector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8"/>
          <p:cNvSpPr/>
          <p:nvPr/>
        </p:nvSpPr>
        <p:spPr>
          <a:xfrm>
            <a:off x="4803480" y="2514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9"/>
          <p:cNvSpPr/>
          <p:nvPr/>
        </p:nvSpPr>
        <p:spPr>
          <a:xfrm>
            <a:off x="663228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0"/>
          <p:cNvSpPr/>
          <p:nvPr/>
        </p:nvSpPr>
        <p:spPr>
          <a:xfrm>
            <a:off x="366048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lowchart: Connector 32"/>
          <p:cNvSpPr/>
          <p:nvPr/>
        </p:nvSpPr>
        <p:spPr>
          <a:xfrm>
            <a:off x="4724280" y="2438280"/>
            <a:ext cx="457200" cy="457200"/>
          </a:xfrm>
          <a:prstGeom prst="flowChartConnector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lowchart: Connector 33"/>
          <p:cNvSpPr/>
          <p:nvPr/>
        </p:nvSpPr>
        <p:spPr>
          <a:xfrm>
            <a:off x="3581280" y="3657600"/>
            <a:ext cx="457200" cy="457200"/>
          </a:xfrm>
          <a:prstGeom prst="flowChartConnector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 Will Help Involv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G Enlargement will invite authorities to participate in evaluation of proposa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expects authorities to be closely involved in the project as an associated partner, the main counterpart or participa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will inform authorities about the overall implementation of the projec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673C-5984-4A7B-9008-25797C9B39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lustrative Activities Financ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1B6F3-0B31-4F5F-ACBF-887BF3975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762120" y="4495680"/>
            <a:ext cx="1600200" cy="1524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2743200" y="4191120"/>
            <a:ext cx="1600200" cy="1828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4572000" y="3048120"/>
            <a:ext cx="1600200" cy="2971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6629400" y="2438280"/>
            <a:ext cx="1600200" cy="3581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8"/>
          <p:cNvSpPr/>
          <p:nvPr/>
        </p:nvSpPr>
        <p:spPr>
          <a:xfrm>
            <a:off x="762120" y="4724280"/>
            <a:ext cx="167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shops and seminars on EU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q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9"/>
          <p:cNvSpPr/>
          <p:nvPr/>
        </p:nvSpPr>
        <p:spPr>
          <a:xfrm>
            <a:off x="2666880" y="4267080"/>
            <a:ext cx="1676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essional training to BA staff on economic impact of EU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qu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0"/>
          <p:cNvSpPr/>
          <p:nvPr/>
        </p:nvSpPr>
        <p:spPr>
          <a:xfrm>
            <a:off x="4495680" y="3352680"/>
            <a:ext cx="1752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nership activities between BAs, think-tanks, other associations to influence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qui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1"/>
          <p:cNvSpPr/>
          <p:nvPr/>
        </p:nvSpPr>
        <p:spPr>
          <a:xfrm>
            <a:off x="6553080" y="2666880"/>
            <a:ext cx="17528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ablishment of Platforms to formulate concrete recommenda-tions and practical solutions,    and exchange of good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2"/>
          <p:cNvSpPr/>
          <p:nvPr/>
        </p:nvSpPr>
        <p:spPr>
          <a:xfrm>
            <a:off x="838080" y="1143000"/>
            <a:ext cx="3353040" cy="106668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3"/>
          <p:cNvSpPr/>
          <p:nvPr/>
        </p:nvSpPr>
        <p:spPr>
          <a:xfrm>
            <a:off x="4876920" y="1143000"/>
            <a:ext cx="3352680" cy="1066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4"/>
          <p:cNvSpPr/>
          <p:nvPr/>
        </p:nvSpPr>
        <p:spPr>
          <a:xfrm>
            <a:off x="1460160" y="1371600"/>
            <a:ext cx="202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5"/>
          <p:cNvSpPr/>
          <p:nvPr/>
        </p:nvSpPr>
        <p:spPr>
          <a:xfrm>
            <a:off x="5799960" y="1371600"/>
            <a:ext cx="162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fl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easures of Success </a:t>
            </a:r>
            <a:br>
              <a:rPr sz="32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within 2 years after project e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2280" y="152388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consultations by public authorities involving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measures taken to adopt and implement EU a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qu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ibution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new joint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itiatives/network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common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sition papers on EU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cqui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actions (workshops, trainings, campaigns, manual/guides, etc) involving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public authorities regarding EU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cqui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A2D95-A4BF-42F4-BC2E-5C302E1A87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 Grant: A Game-Changer for EBF Associat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52280" y="17524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ding for resources to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operate with public authoriti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form projec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ding for substantiv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gional cooperation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pursue similar projec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ding to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ceive high-quality assistanc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om EU partner institu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4BB9E-C09D-4B51-9A63-2B95FCFD40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684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w servic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EBF Associate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tool to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upport EBF Associat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enhancing their contribution to financial sector modernization through structured dialogue with other private and public partner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tailed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uide on action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documents for implementing an SPI Platform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vernance framework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operate an SPI Platform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sed on World Bank’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vergence Program experienc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 Albania and Romani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3A65A-FA02-41AC-91ED-0F2FA7589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5"/>
          <p:cNvGrpSpPr/>
          <p:nvPr/>
        </p:nvGrpSpPr>
        <p:grpSpPr>
          <a:xfrm>
            <a:off x="6629400" y="6172200"/>
            <a:ext cx="1600200" cy="538200"/>
            <a:chOff x="6629400" y="6172200"/>
            <a:chExt cx="1600200" cy="538200"/>
          </a:xfrm>
        </p:grpSpPr>
        <p:sp>
          <p:nvSpPr>
            <p:cNvPr id="117" name="AutoShape 6"/>
            <p:cNvSpPr/>
            <p:nvPr/>
          </p:nvSpPr>
          <p:spPr>
            <a:xfrm>
              <a:off x="6629400" y="6172200"/>
              <a:ext cx="160020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Picture 7" descr=""/>
            <p:cNvPicPr/>
            <p:nvPr/>
          </p:nvPicPr>
          <p:blipFill>
            <a:blip r:embed="rId1"/>
            <a:stretch/>
          </p:blipFill>
          <p:spPr>
            <a:xfrm>
              <a:off x="6629400" y="6172200"/>
              <a:ext cx="1600200" cy="538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2209680" cy="7621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563040"/>
            <a:ext cx="8991720" cy="8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 Platform Toolkit – What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 Platform Toolkit –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is the SPI Platform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y is it importan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promote i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fund i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operate i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3D1EB-D31D-49B4-8E67-9DC8C23E8B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209680" cy="83808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5"/>
          <p:cNvGrpSpPr/>
          <p:nvPr/>
        </p:nvGrpSpPr>
        <p:grpSpPr>
          <a:xfrm>
            <a:off x="6629400" y="5943600"/>
            <a:ext cx="1600200" cy="609480"/>
            <a:chOff x="6629400" y="5943600"/>
            <a:chExt cx="1600200" cy="609480"/>
          </a:xfrm>
        </p:grpSpPr>
        <p:sp>
          <p:nvSpPr>
            <p:cNvPr id="126" name="AutoShape 6"/>
            <p:cNvSpPr/>
            <p:nvPr/>
          </p:nvSpPr>
          <p:spPr>
            <a:xfrm>
              <a:off x="6629400" y="5943600"/>
              <a:ext cx="16002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Picture 7" descr=""/>
            <p:cNvPicPr/>
            <p:nvPr/>
          </p:nvPicPr>
          <p:blipFill>
            <a:blip r:embed="rId2"/>
            <a:stretch/>
          </p:blipFill>
          <p:spPr>
            <a:xfrm>
              <a:off x="6629400" y="5943600"/>
              <a:ext cx="160020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$M</dc:creator>
  <dc:description/>
  <dc:language>en-US</dc:language>
  <cp:lastModifiedBy>Viktorija Proskurovska</cp:lastModifiedBy>
  <dcterms:modified xsi:type="dcterms:W3CDTF">2009-12-07T09:12:38Z</dcterms:modified>
  <cp:revision>10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